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E6B-D521-4B45-ABDA-0A63B7F23BCC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E499-42DA-4F45-AE9B-D316FD86E19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giantshoulders.wordpress.com/2007/10/23/electron-transport-shuttles-in-the-mitochondri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11DF-25AA-4EAD-AAE2-410FC40F8B8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giantshoulders.wordpress.com/2007/10/23/electron-transport-shuttles-in-the-mitochondri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15C4-0922-42D4-83CE-ED9049B11D3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828-0A14-4742-BBAB-A2FF3835DC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8DCB-093C-4103-A095-5106BC13E53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AA3-6E14-4D59-AFBE-35F24DB4A9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799D-090F-4158-B64D-B8A2D7526DD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2F6D-8260-4DE0-9992-4A40F56432F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omplex I - NADH dehydrogenase - ubiquinone - Complex II - Succinate dehydrogenas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omplex III - Cytochrome complex - cytochrome c -  Complex IV - Cytochrome oxidase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hoolworkhelper.net/electron-transport-and-chemiosmosi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from: https://www.boundless.com/biology/textbooks/boundless-biology-textbook/cellular-respiration-7/oxidative-phosphorylation-76/electron-transport-chain-362-11588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962-3C25-4119-8F8F-41BF1F4DC5C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CA" sz="400" spc="-1" strike="noStrike">
                <a:solidFill>
                  <a:srgbClr val="000000"/>
                </a:solidFill>
                <a:latin typeface="Calibri"/>
              </a:rPr>
              <a:t>http://www.depts.ttu.edu/chemistry/Faculty/weber/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32EB-8D45-459C-BAC8-8E2E3836DC8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xidative phosphoryliation = ATP synthesis that is linked to oxidation of energy-rich molecules by an electron transport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894-5039-42D7-B89D-79FC78EB4B5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36E-BB5E-4F3B-BFFC-E5EB5266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587-B1BB-4439-B81F-C9BB924E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B5C-CA1C-4986-8F70-205DD1A1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D69-907B-4D51-B10E-3D50651B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CE4-AEC0-4C07-B2F6-5214E8D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98A-D61F-454D-B403-8738651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B10-F776-43BD-BC1B-3C9294FF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303-AD94-4C7A-8A45-0434FE2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B42-79C1-400F-996D-29F54998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208-74DB-4F6D-BEA5-946F3E1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34D-8BBA-470B-83E0-B5DA161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413A-7D47-4FFC-97EC-DFB3939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7321-1078-45C8-B5D8-6CF04782A3FB}" type="slidenum">
              <a:rPr b="0" lang="en-C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cell.ndsu.edu/animations/etc/movie-flash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898989"/>
                </a:solidFill>
                <a:latin typeface="Arial"/>
              </a:rPr>
              <a:t>&amp; Oxidative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add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passes complex I, so less than 10 H+ are pumped 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1 FADH</a:t>
            </a:r>
            <a:r>
              <a:rPr b="0" lang="en-US" sz="3200" spc="-1" strike="noStrike" baseline="-25000">
                <a:solidFill>
                  <a:srgbClr val="1f497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maximum of </a:t>
            </a: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H from glycolysis transfers its electrons into the mitochondrion through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te-aspartate shuttle (to N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-phosphate shuttle (to FAD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late-Aspartate Shut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8" descr="malateasp.gif"/>
          <p:cNvPicPr/>
          <p:nvPr/>
        </p:nvPicPr>
        <p:blipFill>
          <a:blip r:embed="rId1"/>
          <a:srcRect l="0" t="-472" r="0" b="-47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erol-Phosphate Shut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session_15_-_oxidative_phosphorylation_-_google_slides_(10)-14C6910620203B4C3DD.png"/>
          <p:cNvPicPr/>
          <p:nvPr/>
        </p:nvPicPr>
        <p:blipFill>
          <a:blip r:embed="rId1"/>
          <a:srcRect l="-18693" t="0" r="-186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oretical Energy Y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304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Glycolysi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(4 ATP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yruvat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xid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Krebs Cycl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ubstrate-level phosphorylation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6 NAD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8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2 FAD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4 AT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8 ATP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(36 A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371240"/>
            <a:ext cx="830592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&amp; clear animation with nar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highered.mcgraw-hill.com/sites/0072437316/student_view0/chapter9/animations.html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step-by-step anim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ce.smith.edu/departments/Biology/Bio231/etc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dditional Anim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 animation with explan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tp://www.sp.uconn.edu/~terry/Common/respirat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 in the chemical structure of all of the molecules involved, watch this animation se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johnkyrk.com/mitochondrion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visit the Khan Academ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lesson on the Electron Transport Ch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khanacademy.org/video/electron-transport-chain?playlist=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cou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electron transport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can be uncoupled from </a:t>
            </a:r>
            <a:r>
              <a:rPr b="0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ATP synthesi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by uncoupling prote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nergy from electron transport is released as </a:t>
            </a:r>
            <a:r>
              <a:rPr b="0" lang="en-CA" sz="3600" spc="-1" strike="noStrike">
                <a:solidFill>
                  <a:srgbClr val="c0504d"/>
                </a:solidFill>
                <a:latin typeface="Arial"/>
              </a:rPr>
              <a:t>heat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instead of being used to synthesize AT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ncoupl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ibernating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birds that live in cold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very young offsp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oph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unds that form channels across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H+ ions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 uncouples chemiosmosis from electron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final stage of aerobic cellular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of the energy from the original glucose molecule is transferred to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the inner membrane of the mitochondr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electron-transport-chain"/>
          <p:cNvPicPr/>
          <p:nvPr/>
        </p:nvPicPr>
        <p:blipFill>
          <a:blip r:embed="rId1"/>
          <a:stretch/>
        </p:blipFill>
        <p:spPr>
          <a:xfrm>
            <a:off x="1679400" y="1600200"/>
            <a:ext cx="578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5" descr="figure-07-04-01.jpeg"/>
          <p:cNvPicPr/>
          <p:nvPr/>
        </p:nvPicPr>
        <p:blipFill>
          <a:blip r:embed="rId1"/>
          <a:srcRect l="0" t="12757" r="0" b="12757"/>
          <a:stretch/>
        </p:blipFill>
        <p:spPr>
          <a:xfrm>
            <a:off x="32400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vcell.ndsu.edu/animations/etc/movie-flash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TP Synthase Comp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weber"/>
          <p:cNvPicPr/>
          <p:nvPr/>
        </p:nvPicPr>
        <p:blipFill>
          <a:blip r:embed="rId1"/>
          <a:stretch/>
        </p:blipFill>
        <p:spPr>
          <a:xfrm>
            <a:off x="2368440" y="1523880"/>
            <a:ext cx="41086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langara.bc.ca/biology/mario/Assets/chemiosmosis.jpg"/>
          <p:cNvPicPr/>
          <p:nvPr/>
        </p:nvPicPr>
        <p:blipFill>
          <a:blip r:embed="rId1"/>
          <a:stretch/>
        </p:blipFill>
        <p:spPr>
          <a:xfrm>
            <a:off x="1523880" y="1676520"/>
            <a:ext cx="6143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synthase in a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youtube.com/watch?v=3y1dO4nNa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it all u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ADH that is oxidize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0 H+ ions are pumped into the intermembrane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4 H+ ions are needed to flow through ATP synthase to make 1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maximum of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3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20:54:35Z</dcterms:created>
  <dc:creator>jen</dc:creator>
  <dc:description/>
  <dc:language>en-US</dc:language>
  <cp:lastModifiedBy>rubina khan</cp:lastModifiedBy>
  <dcterms:modified xsi:type="dcterms:W3CDTF">2017-06-01T14:47:40Z</dcterms:modified>
  <cp:revision>128</cp:revision>
  <dc:subject/>
  <dc:title>Slide 1</dc:title>
</cp:coreProperties>
</file>